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09F5-FF7D-4EA6-A727-91A1CA855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 ART Fig.1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96A-9484-4C6C-9FD5-0408A9AB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2EF-2D8D-4D70-B4EE-509369D1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6AE-9570-4200-B028-93E68944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073-AFD8-4757-8F6D-2DB4DAC7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8F2C-7AB9-46C4-9BA5-AFAD2B4E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956B-1282-4FE2-AE10-8E6830D3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BBF8-5961-43C5-906C-EBDD8158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2525-FAD9-440F-BE79-135F44CA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2E9E-C9FF-43A6-BB17-3B72D101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CC7B-4978-49A2-A5C6-105A1348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EBF5-137D-404D-A5A4-0706F94E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272-A649-4782-9CBF-E9E0AF96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6443-471A-4810-9060-55D491C2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597A-6A03-4DD0-B07B-D97E8B2A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1FEC-5C94-4AB6-AD45-EA531113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B281-E4C9-4F0A-8774-34759096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8B3D-907C-456D-82CB-DD8FAE54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DCE-8604-4629-B3DD-F9A4A119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C32-6948-4CE0-A136-AFD8FAF8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390-5BA9-407C-BFD6-A4F470FF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E7E-7619-4E34-B398-976F6159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44A3-C501-4058-A7F3-8545F98D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B9A-3D48-4F8F-9C7C-3440FBD2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D51-0A13-4470-B7CC-BBDAC286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mputer Literacy 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4654-E7F9-40A9-8436-57516215A0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72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8225-8D4A-493C-85FD-6D87BAD577C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mputing Fundamentals Module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sson 1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troducing Computer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581280" y="2927160"/>
            <a:ext cx="510552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puter Literacy BASIC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Computers Are Used Toda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omework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stant access to research and information; can software applications for assign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naging businesse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aintain inventory, print invoices, track finances, advertise online, many other task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1E7-A951-4BB0-B353-C2926A05DF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Compu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percomputer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argest and fastest computers used by government agencies and large corporations to process tremendous volumes of da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inframe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arge, very expensive machines that can support thousands of users; used by large corpora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3E5-D7FC-4CA1-B390-A9A05EAD307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Compu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Minicomputers: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Larger than a desktop and much more expensive, but can support many user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Microcomputers: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personal computers or desktop computers. Personal computers also includ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Notebook computers: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 Smaller and more portable than a desktop; commonly called a laptop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PDAs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Personal Digital Assistants):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 are very small and fit in the palm of your hand.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B1B9-79CA-43B9-8751-0E99C3E6CFA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7086600" cy="2528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H="1">
            <a:off x="6552720" y="2971800"/>
            <a:ext cx="228600" cy="5335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895480"/>
            <a:ext cx="457200" cy="6098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Personal Compu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2666880"/>
            <a:ext cx="228600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intosh deskto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2666880"/>
            <a:ext cx="152424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 deskto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658-08CA-4153-BC49-B85718217DC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52480" y="3657600"/>
            <a:ext cx="2438640" cy="2389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6781680" y="3124080"/>
            <a:ext cx="152640" cy="5335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3124080"/>
            <a:ext cx="15228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Personal Compu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2819520"/>
            <a:ext cx="76176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819520"/>
            <a:ext cx="129564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eboo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438280" cy="207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4445-94FE-44FF-9F30-C0707F62CB3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Computing De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Microprocessors are computer chips that perform special functions to process information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se computer chips help many kinds of equipment perform more efficiently and effectively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Household applianc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alculators, cellular telephones, and digital camera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Game system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utomobil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Industrial equipmen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C0F-AFDD-4284-B186-B717F5D05B3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uter Syst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omputer system is a combination of parts working together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Hardware: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The physical devices such as keyboard, monitor, CPU, and so 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oftware: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Operating systems and application program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Data: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The facts entered into a computer to be processe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ople: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The users who enter the data and use the resulting outpu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418-6327-4C0C-BD2D-4ED01364093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rdware Components of a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ical Microcomputer Syst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4684680" cy="37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C5E-DD2F-4355-A921-D8AF999AE53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ta Communic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communications is the technology that enables computers to communicat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ur components of data communications 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ender: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The computer that is sending the messag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Receiver: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The computer receiving the message 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hannel: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The media that carries or transports the message. This could be telephone wire, coaxial cable, microwave signal, or fiber optic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rotocol: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The rules that govern the orderly transfer of the data sen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150-433B-4639-AC9A-E5CA9CE40E5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ta Communications Compon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581280"/>
            <a:ext cx="4647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6553080" cy="132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4B54-8BA6-48C8-8DEB-24090792703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e a compu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 how computers are used in our daily liv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are and classify types of comput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the parts of a computer syst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how computers are integrated into larger systems through network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25D-9DD0-48EA-9317-4BD9B9AB58F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uter Networ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Businesses utilize a type of data communications called a network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 network consists of multiple computers connected to each other to share data and resource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 computer network located in a small geographical area, such as one building or department, is called a local area network or LAN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 network made up of several local networks in a city, region, or across the world is called a wide area network or WAN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74DE-A74A-49D9-9B5E-96A9D6EA03B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Typical Network Layo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590920"/>
            <a:ext cx="44956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064200" cy="352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E80-FDC9-4A93-89F3-5A1297E1ABE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ane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used within an organization and contains company information such as handbooks, forms, and newslett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: reliability and security because the organization can control access to this kind of net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F57-F295-4DF3-A133-1916C395715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rane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ranets are computer networks that allow outside organizations to access a business’s internal information system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 is controlled tightly and is usually reserved for suppliers or custom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18A-7634-4B1F-81BF-60FD332CE88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Intern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Internet was developed for government research projects to share information quickly and easily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oday it is the largest network in the world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used by millions of users everyday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as become a critical and valuable business tool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most common feature is electronic mail, or e-mail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4442-164C-4C00-BFFA-5E91BAE53BE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sign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lete Review Questions: Lesson 1, page 15 &amp; 16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ple Choice Q’s 1-10 &amp; True/False Q’s 1-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Please write out the entire question with the correct answer!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iz over Ch 1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2A3-243C-4227-AF91-A6AD2031047F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n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u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uter 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communic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l area network (LA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frame compu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compu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process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880-08FF-43CF-A0DC-86BF56FECB1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nicompu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ebook compu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toc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n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compu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 area networks (WA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CFC4-3820-4A31-8D86-97A59A26663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Makes a Computer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Compu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 computer is an electronic device tha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ceives dat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formation (text, numbers, or graphic images) is entered into the compu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es dat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omputer will change the data from original into the result the user wan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ores dat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formation is stored in the computer’s memo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duces a result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 final display of information that was entered can be printed or displayed on a monit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929-CE31-4CC1-90FD-43DEEB26E8D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Processing Cycle of a Compu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3352680"/>
            <a:ext cx="25905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6855120" cy="20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99F-DCD0-478E-8711-E5194626E46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uters Perform Three Op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ithmetic ope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dding, subtracting, multiplying, and dividing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gical comparis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qual to, greater than or less than, etc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orage and retrieval ope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D67F-58A0-4CF5-A546-AB61883F0E2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Are Computers So Popula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form functions very quick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ce accurate and reliable resul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ore large amounts of da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versatile and cost-effec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becoming more powerful and more useful every d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D03-B42A-4013-885E-E04B3008A64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Computers Are Used Toda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uters are used every day f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News: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Newspapers and TV stations post breaking news, and weather can be accessed on demand on Interne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Shopping: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Millions of people use Internet to purchase goods and service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3EDB-AF77-4CCE-A659-57792CDF360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1:47:29Z</dcterms:created>
  <dc:creator>Connie Morrison</dc:creator>
  <dc:description/>
  <dc:language>en-US</dc:language>
  <cp:lastModifiedBy>LDSD</cp:lastModifiedBy>
  <dcterms:modified xsi:type="dcterms:W3CDTF">2009-08-18T16:27:31Z</dcterms:modified>
  <cp:revision>60</cp:revision>
  <dc:subject/>
  <dc:title>kjjhghgff</dc:title>
</cp:coreProperties>
</file>